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FF4-CD6E-4562-B7C0-E8976AE8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C1A-EE92-4E6E-BB10-C3ACA66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AEB-EAA9-4285-BF49-1AA8C1C6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211-8FEA-403A-8A9A-C56CCE1E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47E-9739-4C1A-8DD0-1EB51C9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9B0-555B-4CAC-AA2F-ADEFC28E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BB7-FADF-42A0-BFDF-3496FF01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942-05AE-4722-9AA6-F105E1F0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290-23D4-410C-AAEB-10EB9FFB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7A3-1DB3-4248-AA9D-F34C986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A66-F3C9-4326-9DE7-EA64CF0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042-51F0-4177-A34D-FF16CB4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4F69-5661-4846-805E-7E019542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7" t="10861" r="6936" b="8853"/>
          <a:stretch/>
        </p:blipFill>
        <p:spPr>
          <a:xfrm>
            <a:off x="539640" y="1700280"/>
            <a:ext cx="576108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32720" y="1197000"/>
            <a:ext cx="136836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is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re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q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ze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880" y="404640"/>
            <a:ext cx="91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numbers can you make using these let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5600" y="6165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make any other wor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4724280"/>
            <a:ext cx="7225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21:21:47Z</dcterms:created>
  <dc:creator>Helen</dc:creator>
  <dc:description/>
  <dc:language>en-US</dc:language>
  <cp:lastModifiedBy>Helen</cp:lastModifiedBy>
  <dcterms:modified xsi:type="dcterms:W3CDTF">2010-05-18T21:38:03Z</dcterms:modified>
  <cp:revision>2</cp:revision>
  <dc:subject/>
  <dc:title>Slide 1</dc:title>
</cp:coreProperties>
</file>